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E90C42-6CE6-4140-8A3D-BA7B85020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83D6A3-8B77-4F94-B5AB-2F4EAAC38B6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059B81-D551-4458-A074-FD5025CA4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FA0524-5479-4A24-804A-65A38E1B09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D58B57-2888-4E24-B07E-313566C01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E0FC0E-87BF-4608-936C-5E78FF85F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20FBE5-A95A-4043-86D3-61F68B7CB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2C323C-BCE4-433D-9735-8341BA6A0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B067EF-4115-4709-A856-DFC767ACA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358896-D709-4DC3-B1D6-13473C58A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18E46E-EAF4-4E54-9D13-B4A43F330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3BE279-79F4-4889-A2AC-7090D4969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7A80-189B-46D8-8E25-13558478D99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B21E54-E830-421F-B693-BBC8893B8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9A9D67-89A8-41A7-AC54-29AE36F26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A5F066-238B-46CD-9BA0-429D90D27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1E5631-5800-4605-9908-BF9D537D7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892D7F-0845-4D35-B617-D4935AEED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560F-0416-4595-9D2E-CA6A92EB4F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1CD7-BC55-4B80-A067-9265C81D0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70DA-1D22-41B1-A5EB-7D9FDD18D6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EBDC-9541-449B-A7C4-5980DA4C1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50DD-F545-4BDB-A72B-7C23001AE2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F565-4780-4BFF-8B2F-3C501DED74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E6D1-D4C8-44CA-8841-688EE39FA8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3B83-CC08-4237-80D2-50BB342917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EE24-2B91-47EA-8900-8B8C909B8F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0A86-6784-48ED-AF7F-F9F1EB1881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C288-9E09-4DF4-AF76-073F7B2434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0C47-F95A-4AA5-9253-6F513AC11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3535200"/>
            <a:ext cx="7358040" cy="795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92520" indent="-925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4062240" y="0"/>
            <a:ext cx="1019520" cy="868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5081760" y="0"/>
            <a:ext cx="4062240" cy="866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1440" y="1440"/>
            <a:ext cx="4073400" cy="865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8772480" y="5383080"/>
            <a:ext cx="320760" cy="1420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3920" y="630360"/>
            <a:ext cx="868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ww.semantic-web-grundlagen.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-76320" y="1295280"/>
            <a:ext cx="1206720" cy="3556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pierung 17"/>
          <p:cNvGrpSpPr/>
          <p:nvPr/>
        </p:nvGrpSpPr>
        <p:grpSpPr>
          <a:xfrm>
            <a:off x="-12600" y="-63360"/>
            <a:ext cx="9156600" cy="1358640"/>
            <a:chOff x="-12600" y="-63360"/>
            <a:chExt cx="9156600" cy="1358640"/>
          </a:xfrm>
        </p:grpSpPr>
        <p:sp>
          <p:nvSpPr>
            <p:cNvPr id="47" name="Rectangle 3"/>
            <p:cNvSpPr/>
            <p:nvPr/>
          </p:nvSpPr>
          <p:spPr>
            <a:xfrm>
              <a:off x="-12600" y="1249560"/>
              <a:ext cx="9156600" cy="45720"/>
            </a:xfrm>
            <a:prstGeom prst="rect">
              <a:avLst/>
            </a:prstGeom>
            <a:gradFill rotWithShape="0">
              <a:gsLst>
                <a:gs pos="0">
                  <a:srgbClr val="fcfefe"/>
                </a:gs>
                <a:gs pos="100000">
                  <a:srgbClr val="de33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3"/>
            <a:stretch/>
          </p:blipFill>
          <p:spPr>
            <a:xfrm>
              <a:off x="-2520" y="377280"/>
              <a:ext cx="111852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4"/>
            <a:srcRect l="0" t="0" r="0" b="89741"/>
            <a:stretch/>
          </p:blipFill>
          <p:spPr>
            <a:xfrm>
              <a:off x="-2520" y="-63360"/>
              <a:ext cx="1118520" cy="44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34AE-B448-4E6D-BCEF-567563A3A3B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penguins"/>
          <p:cNvPicPr/>
          <p:nvPr/>
        </p:nvPicPr>
        <p:blipFill>
          <a:blip r:embed="rId1"/>
          <a:stretch/>
        </p:blipFill>
        <p:spPr>
          <a:xfrm>
            <a:off x="1600200" y="660240"/>
            <a:ext cx="5486400" cy="553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2328-CE35-408B-8A64-05DCA387787F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04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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539640" y="454968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403280" y="469440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84360" y="527040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826920" y="591804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167280" y="4786200"/>
            <a:ext cx="3795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280" y="41911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164360" y="54864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300720" y="5229360"/>
            <a:ext cx="30024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5867280" y="5516640"/>
            <a:ext cx="433440" cy="61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918960" y="6207120"/>
            <a:ext cx="29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unk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9D9B-27C7-41AE-A2DF-8656F045FCEE}" type="slidenum">
              <a:t>10</a:t>
            </a:fld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4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-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91E2-D1EC-4991-9334-55372F247A49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26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195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08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21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D3FC-53AC-42DC-8BB0-3D1BE738A999}" type="slidenum">
              <a:t>12</a:t>
            </a:fld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028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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39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254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255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259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260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264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265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269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270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274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275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279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280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284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285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289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290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294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295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299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00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7BCE-6F8F-40F1-A20B-676934CA5A6F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67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07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19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CE6B-CB4E-49B6-BD6A-BEF70DE7B7F5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91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die (mindestens) ein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36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48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365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368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81FE-6097-48F7-9DDE-A3882C0B0EBE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7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85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02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05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1F25-E96E-4303-B3EF-66F256CB98F5}" type="slidenum">
              <a:t>16</a:t>
            </a:fld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0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2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440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443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FA88-1190-453A-B271-A5DCAB84ADA0}" type="slidenum">
              <a:t>17</a:t>
            </a:fld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0FE4-977C-41D6-81FA-6ED1CE5912B6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29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6680" y="16686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7"/>
          <p:cNvGrpSpPr/>
          <p:nvPr/>
        </p:nvGrpSpPr>
        <p:grpSpPr>
          <a:xfrm>
            <a:off x="2075040" y="5184360"/>
            <a:ext cx="1357560" cy="1306440"/>
            <a:chOff x="2075040" y="5184360"/>
            <a:chExt cx="1357560" cy="1306440"/>
          </a:xfrm>
        </p:grpSpPr>
        <p:pic>
          <p:nvPicPr>
            <p:cNvPr id="482" name="Picture 15" descr="GCJB1637"/>
            <p:cNvPicPr/>
            <p:nvPr/>
          </p:nvPicPr>
          <p:blipFill>
            <a:blip r:embed="rId1"/>
            <a:srcRect l="0" t="26755" r="47522" b="0"/>
            <a:stretch/>
          </p:blipFill>
          <p:spPr>
            <a:xfrm>
              <a:off x="2075040" y="5354640"/>
              <a:ext cx="115092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393"/>
            <p:cNvSpPr/>
            <p:nvPr/>
          </p:nvSpPr>
          <p:spPr>
            <a:xfrm rot="18470400">
              <a:off x="2857320" y="6121080"/>
              <a:ext cx="620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94"/>
            <p:cNvSpPr/>
            <p:nvPr/>
          </p:nvSpPr>
          <p:spPr>
            <a:xfrm rot="17146200">
              <a:off x="3059280" y="5979600"/>
              <a:ext cx="3636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95"/>
            <p:cNvSpPr/>
            <p:nvPr/>
          </p:nvSpPr>
          <p:spPr>
            <a:xfrm rot="2088600">
              <a:off x="2990880" y="5330520"/>
              <a:ext cx="4366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96"/>
            <p:cNvSpPr/>
            <p:nvPr/>
          </p:nvSpPr>
          <p:spPr>
            <a:xfrm rot="3934200">
              <a:off x="2983680" y="5345640"/>
              <a:ext cx="4539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4"/>
          <p:cNvSpPr/>
          <p:nvPr/>
        </p:nvSpPr>
        <p:spPr>
          <a:xfrm>
            <a:off x="5530680" y="4765680"/>
            <a:ext cx="223236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993600" y="3827520"/>
            <a:ext cx="792180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6251400" y="548496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6107040" y="613404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4"/>
          <p:cNvSpPr/>
          <p:nvPr/>
        </p:nvSpPr>
        <p:spPr>
          <a:xfrm>
            <a:off x="5818320" y="49086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3205080" y="4887360"/>
            <a:ext cx="2710440" cy="883080"/>
            <a:chOff x="3205080" y="4887360"/>
            <a:chExt cx="2710440" cy="883080"/>
          </a:xfrm>
        </p:grpSpPr>
        <p:sp>
          <p:nvSpPr>
            <p:cNvPr id="493" name="AutoShape 20"/>
            <p:cNvSpPr/>
            <p:nvPr/>
          </p:nvSpPr>
          <p:spPr>
            <a:xfrm rot="21103800">
              <a:off x="3227400" y="507636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2"/>
            <p:cNvSpPr/>
            <p:nvPr/>
          </p:nvSpPr>
          <p:spPr>
            <a:xfrm>
              <a:off x="4347720" y="5124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3298680" y="5504040"/>
            <a:ext cx="3024000" cy="572760"/>
            <a:chOff x="3298680" y="5504040"/>
            <a:chExt cx="3024000" cy="572760"/>
          </a:xfrm>
        </p:grpSpPr>
        <p:sp>
          <p:nvSpPr>
            <p:cNvPr id="496" name="AutoShape 19"/>
            <p:cNvSpPr/>
            <p:nvPr/>
          </p:nvSpPr>
          <p:spPr>
            <a:xfrm>
              <a:off x="3298680" y="5504040"/>
              <a:ext cx="3024000" cy="504360"/>
            </a:xfrm>
            <a:prstGeom prst="rightArrow">
              <a:avLst>
                <a:gd name="adj1" fmla="val 46111"/>
                <a:gd name="adj2" fmla="val 12219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3"/>
            <p:cNvSpPr/>
            <p:nvPr/>
          </p:nvSpPr>
          <p:spPr>
            <a:xfrm>
              <a:off x="4563360" y="5556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5"/>
          <p:cNvGrpSpPr/>
          <p:nvPr/>
        </p:nvGrpSpPr>
        <p:grpSpPr>
          <a:xfrm>
            <a:off x="3203640" y="5737320"/>
            <a:ext cx="2852640" cy="1005480"/>
            <a:chOff x="3203640" y="5737320"/>
            <a:chExt cx="2852640" cy="1005480"/>
          </a:xfrm>
        </p:grpSpPr>
        <p:sp>
          <p:nvSpPr>
            <p:cNvPr id="499" name="AutoShape 17"/>
            <p:cNvSpPr/>
            <p:nvPr/>
          </p:nvSpPr>
          <p:spPr>
            <a:xfrm rot="627000">
              <a:off x="3225960" y="5987520"/>
              <a:ext cx="2807640" cy="504720"/>
            </a:xfrm>
            <a:prstGeom prst="rightArrow">
              <a:avLst>
                <a:gd name="adj1" fmla="val 46111"/>
                <a:gd name="adj2" fmla="val 113367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4"/>
            <p:cNvSpPr/>
            <p:nvPr/>
          </p:nvSpPr>
          <p:spPr>
            <a:xfrm>
              <a:off x="4404600" y="59878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D25F-B86C-421F-B009-119452AB11B7}" type="slidenum">
              <a:t>19</a:t>
            </a:fld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3520" y="3472920"/>
            <a:ext cx="7358040" cy="23497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Parallels Picture"/>
          <p:cNvPicPr/>
          <p:nvPr/>
        </p:nvPicPr>
        <p:blipFill>
          <a:blip r:embed="rId1"/>
          <a:stretch/>
        </p:blipFill>
        <p:spPr>
          <a:xfrm>
            <a:off x="3876840" y="1596960"/>
            <a:ext cx="2835000" cy="272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0AED-0551-4006-A04C-016F260C6B84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14320" y="167760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2111400" y="14619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390680" y="3406680"/>
            <a:ext cx="259236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INDUS050"/>
          <p:cNvPicPr/>
          <p:nvPr/>
        </p:nvPicPr>
        <p:blipFill>
          <a:blip r:embed="rId1"/>
          <a:stretch/>
        </p:blipFill>
        <p:spPr>
          <a:xfrm>
            <a:off x="2471760" y="40543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METER"/>
          <p:cNvPicPr/>
          <p:nvPr/>
        </p:nvPicPr>
        <p:blipFill>
          <a:blip r:embed="rId2"/>
          <a:stretch/>
        </p:blipFill>
        <p:spPr>
          <a:xfrm>
            <a:off x="1461960" y="429084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8"/>
          <p:cNvSpPr/>
          <p:nvPr/>
        </p:nvSpPr>
        <p:spPr>
          <a:xfrm>
            <a:off x="146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90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046320" y="196524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541520" y="1668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319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175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2327400" y="5423040"/>
            <a:ext cx="9349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2327400" y="347832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1895400" y="347832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1390680" y="1749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596960" y="1960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6" descr="sha0014"/>
          <p:cNvPicPr/>
          <p:nvPr/>
        </p:nvPicPr>
        <p:blipFill>
          <a:blip r:embed="rId7"/>
          <a:stretch/>
        </p:blipFill>
        <p:spPr>
          <a:xfrm>
            <a:off x="4056120" y="340668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7" descr="ICN_073C"/>
          <p:cNvPicPr/>
          <p:nvPr/>
        </p:nvPicPr>
        <p:blipFill>
          <a:blip r:embed="rId8"/>
          <a:stretch/>
        </p:blipFill>
        <p:spPr>
          <a:xfrm>
            <a:off x="1247760" y="556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ICN_073C"/>
          <p:cNvPicPr/>
          <p:nvPr/>
        </p:nvPicPr>
        <p:blipFill>
          <a:blip r:embed="rId9"/>
          <a:stretch/>
        </p:blipFill>
        <p:spPr>
          <a:xfrm>
            <a:off x="3191040" y="563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4"/>
          <p:cNvSpPr/>
          <p:nvPr/>
        </p:nvSpPr>
        <p:spPr>
          <a:xfrm>
            <a:off x="1607400" y="592776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3AC6-1B9B-46D8-B3A8-F55C94B679BC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16160" y="1801440"/>
            <a:ext cx="550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1928880" y="137016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1359000" y="157644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>
            <a:off x="1208160" y="165744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0"/>
          <p:cNvSpPr/>
          <p:nvPr/>
        </p:nvSpPr>
        <p:spPr>
          <a:xfrm>
            <a:off x="1414440" y="18684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380880" y="547380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-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2" descr="INDUS041"/>
          <p:cNvPicPr/>
          <p:nvPr/>
        </p:nvPicPr>
        <p:blipFill>
          <a:blip r:embed="rId1"/>
          <a:stretch/>
        </p:blipFill>
        <p:spPr>
          <a:xfrm flipH="1">
            <a:off x="3548160" y="4826160"/>
            <a:ext cx="5976720" cy="1803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1208160" y="3314880"/>
            <a:ext cx="259236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INDUS050"/>
          <p:cNvPicPr/>
          <p:nvPr/>
        </p:nvPicPr>
        <p:blipFill>
          <a:blip r:embed="rId2"/>
          <a:stretch/>
        </p:blipFill>
        <p:spPr>
          <a:xfrm>
            <a:off x="2289240" y="39625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METER"/>
          <p:cNvPicPr/>
          <p:nvPr/>
        </p:nvPicPr>
        <p:blipFill>
          <a:blip r:embed="rId3"/>
          <a:stretch/>
        </p:blipFill>
        <p:spPr>
          <a:xfrm>
            <a:off x="1279440" y="419904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7"/>
          <p:cNvSpPr txBox="1"/>
          <p:nvPr/>
        </p:nvSpPr>
        <p:spPr>
          <a:xfrm>
            <a:off x="1784520" y="33861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8"/>
          <p:cNvSpPr txBox="1"/>
          <p:nvPr/>
        </p:nvSpPr>
        <p:spPr>
          <a:xfrm>
            <a:off x="1352520" y="338616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7977240" y="547380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279440" y="288288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68520" y="244944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3" descr="ICN_073C"/>
          <p:cNvPicPr/>
          <p:nvPr/>
        </p:nvPicPr>
        <p:blipFill>
          <a:blip r:embed="rId8"/>
          <a:stretch/>
        </p:blipFill>
        <p:spPr>
          <a:xfrm>
            <a:off x="6824520" y="525780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ICN_073C"/>
          <p:cNvPicPr/>
          <p:nvPr/>
        </p:nvPicPr>
        <p:blipFill>
          <a:blip r:embed="rId9"/>
          <a:stretch/>
        </p:blipFill>
        <p:spPr>
          <a:xfrm>
            <a:off x="5961240" y="49705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5" descr="ICN_073C"/>
          <p:cNvPicPr/>
          <p:nvPr/>
        </p:nvPicPr>
        <p:blipFill>
          <a:blip r:embed="rId10"/>
          <a:stretch/>
        </p:blipFill>
        <p:spPr>
          <a:xfrm>
            <a:off x="5024520" y="47545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ICN_073C"/>
          <p:cNvPicPr/>
          <p:nvPr/>
        </p:nvPicPr>
        <p:blipFill>
          <a:blip r:embed="rId11"/>
          <a:stretch/>
        </p:blipFill>
        <p:spPr>
          <a:xfrm>
            <a:off x="4376880" y="475452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7" descr="ICN_073C"/>
          <p:cNvPicPr/>
          <p:nvPr/>
        </p:nvPicPr>
        <p:blipFill>
          <a:blip r:embed="rId12"/>
          <a:stretch/>
        </p:blipFill>
        <p:spPr>
          <a:xfrm>
            <a:off x="3944880" y="475452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EAE7-E496-43A7-8ACC-D52B731F37E7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554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80EA-039D-4E99-877E-D463FB1AF7CC}" type="slidenum">
              <a:t>23</a:t>
            </a:fld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2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4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21932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5"/>
          <p:cNvGrpSpPr/>
          <p:nvPr/>
        </p:nvGrpSpPr>
        <p:grpSpPr>
          <a:xfrm>
            <a:off x="453960" y="5157720"/>
            <a:ext cx="1069920" cy="1495440"/>
            <a:chOff x="453960" y="5157720"/>
            <a:chExt cx="1069920" cy="1495440"/>
          </a:xfrm>
        </p:grpSpPr>
        <p:pic>
          <p:nvPicPr>
            <p:cNvPr id="576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45396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4"/>
            <p:cNvSpPr/>
            <p:nvPr/>
          </p:nvSpPr>
          <p:spPr>
            <a:xfrm>
              <a:off x="45396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43AB-CE1A-4FF2-AA67-D89AF950E2B4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0BC5-4B28-40F4-8D38-0112B612B9CA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5F12-FA3A-4C0D-9806-176883F5FE67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6"/>
          <p:cNvSpPr/>
          <p:nvPr/>
        </p:nvSpPr>
        <p:spPr>
          <a:xfrm>
            <a:off x="154764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313200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4572000" y="3357720"/>
            <a:ext cx="129708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637236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5148360" y="2637000"/>
            <a:ext cx="64764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1908000" y="2637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270B-06AF-4A15-A10E-807CA997961E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905120" y="1415880"/>
          <a:ext cx="5715000" cy="2089440"/>
        </p:xfrm>
        <a:graphic>
          <a:graphicData uri="http://schemas.openxmlformats.org/drawingml/2006/table">
            <a:tbl>
              <a:tblPr/>
              <a:tblGrid>
                <a:gridCol w="950760"/>
                <a:gridCol w="1487520"/>
                <a:gridCol w="327672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30E7-C196-49E0-9DFB-269EE107EE58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388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0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15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616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D789-0566-4474-9586-B15E02186EDB}" type="slidenum">
              <a:t>29</a:t>
            </a:fld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k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Grundla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59240" y="2705040"/>
            <a:ext cx="3133800" cy="342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64"/>
          <p:cNvSpPr/>
          <p:nvPr/>
        </p:nvSpPr>
        <p:spPr>
          <a:xfrm>
            <a:off x="468360" y="3284640"/>
            <a:ext cx="4294080" cy="30312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6309-15DB-4F3F-A593-94AF2C9B964D}" type="slidenum">
              <a:t>3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92"/>
          <p:cNvSpPr/>
          <p:nvPr/>
        </p:nvSpPr>
        <p:spPr>
          <a:xfrm>
            <a:off x="755640" y="3357720"/>
            <a:ext cx="8209080" cy="34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40" y="19807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2263-A616-4B8A-B512-838731AD5EC7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31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39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4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5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6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7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9723-8265-456F-80D8-B0CCA013067E}" type="slidenum">
              <a:t>31</a:t>
            </a:fld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6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70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5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6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7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8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85F1-18AD-4817-A721-25CB15E366CB}" type="slidenum">
              <a:t>32</a:t>
            </a:fld>
          </a:p>
        </p:txBody>
      </p: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52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1640" y="1628280"/>
            <a:ext cx="4321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48720" y="1557360"/>
            <a:ext cx="351360" cy="504720"/>
            <a:chOff x="1548720" y="1557360"/>
            <a:chExt cx="351360" cy="504720"/>
          </a:xfrm>
        </p:grpSpPr>
        <p:sp>
          <p:nvSpPr>
            <p:cNvPr id="697" name=""/>
            <p:cNvSpPr/>
            <p:nvPr/>
          </p:nvSpPr>
          <p:spPr>
            <a:xfrm>
              <a:off x="154872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4872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48720" y="1916280"/>
            <a:ext cx="351360" cy="504360"/>
            <a:chOff x="1548720" y="1916280"/>
            <a:chExt cx="351360" cy="504360"/>
          </a:xfrm>
        </p:grpSpPr>
        <p:sp>
          <p:nvSpPr>
            <p:cNvPr id="700" name=""/>
            <p:cNvSpPr/>
            <p:nvPr/>
          </p:nvSpPr>
          <p:spPr>
            <a:xfrm>
              <a:off x="154872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4872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269440" y="2637000"/>
            <a:ext cx="351360" cy="504360"/>
            <a:chOff x="2269440" y="2637000"/>
            <a:chExt cx="351360" cy="504360"/>
          </a:xfrm>
        </p:grpSpPr>
        <p:sp>
          <p:nvSpPr>
            <p:cNvPr id="703" name=""/>
            <p:cNvSpPr/>
            <p:nvPr/>
          </p:nvSpPr>
          <p:spPr>
            <a:xfrm>
              <a:off x="226944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6944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269440" y="2924280"/>
            <a:ext cx="351360" cy="504720"/>
            <a:chOff x="2269440" y="2924280"/>
            <a:chExt cx="351360" cy="504720"/>
          </a:xfrm>
        </p:grpSpPr>
        <p:sp>
          <p:nvSpPr>
            <p:cNvPr id="706" name=""/>
            <p:cNvSpPr/>
            <p:nvPr/>
          </p:nvSpPr>
          <p:spPr>
            <a:xfrm>
              <a:off x="2269440" y="2984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69440" y="2924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620360" y="3645000"/>
            <a:ext cx="351360" cy="504720"/>
            <a:chOff x="1620360" y="3645000"/>
            <a:chExt cx="351360" cy="504720"/>
          </a:xfrm>
        </p:grpSpPr>
        <p:sp>
          <p:nvSpPr>
            <p:cNvPr id="709" name=""/>
            <p:cNvSpPr/>
            <p:nvPr/>
          </p:nvSpPr>
          <p:spPr>
            <a:xfrm>
              <a:off x="1620360" y="3705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20360" y="3645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620360" y="4005360"/>
            <a:ext cx="351360" cy="504720"/>
            <a:chOff x="1620360" y="4005360"/>
            <a:chExt cx="351360" cy="504720"/>
          </a:xfrm>
        </p:grpSpPr>
        <p:sp>
          <p:nvSpPr>
            <p:cNvPr id="712" name=""/>
            <p:cNvSpPr/>
            <p:nvPr/>
          </p:nvSpPr>
          <p:spPr>
            <a:xfrm>
              <a:off x="1620360" y="40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20360" y="40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41080" y="4653000"/>
            <a:ext cx="351360" cy="504720"/>
            <a:chOff x="2341080" y="4653000"/>
            <a:chExt cx="351360" cy="504720"/>
          </a:xfrm>
        </p:grpSpPr>
        <p:sp>
          <p:nvSpPr>
            <p:cNvPr id="715" name=""/>
            <p:cNvSpPr/>
            <p:nvPr/>
          </p:nvSpPr>
          <p:spPr>
            <a:xfrm>
              <a:off x="2341080" y="4713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1080" y="4653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341080" y="5013360"/>
            <a:ext cx="351360" cy="504720"/>
            <a:chOff x="2341080" y="5013360"/>
            <a:chExt cx="351360" cy="504720"/>
          </a:xfrm>
        </p:grpSpPr>
        <p:sp>
          <p:nvSpPr>
            <p:cNvPr id="718" name=""/>
            <p:cNvSpPr/>
            <p:nvPr/>
          </p:nvSpPr>
          <p:spPr>
            <a:xfrm>
              <a:off x="2341080" y="5073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41080" y="5013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509800" y="1557360"/>
            <a:ext cx="351360" cy="504720"/>
            <a:chOff x="5509800" y="1557360"/>
            <a:chExt cx="351360" cy="504720"/>
          </a:xfrm>
        </p:grpSpPr>
        <p:sp>
          <p:nvSpPr>
            <p:cNvPr id="721" name=""/>
            <p:cNvSpPr/>
            <p:nvPr/>
          </p:nvSpPr>
          <p:spPr>
            <a:xfrm>
              <a:off x="550980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0980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509800" y="1916280"/>
            <a:ext cx="351360" cy="504360"/>
            <a:chOff x="5509800" y="1916280"/>
            <a:chExt cx="351360" cy="504360"/>
          </a:xfrm>
        </p:grpSpPr>
        <p:sp>
          <p:nvSpPr>
            <p:cNvPr id="724" name=""/>
            <p:cNvSpPr/>
            <p:nvPr/>
          </p:nvSpPr>
          <p:spPr>
            <a:xfrm>
              <a:off x="550980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980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797080" y="2637000"/>
            <a:ext cx="351360" cy="504360"/>
            <a:chOff x="5797080" y="2637000"/>
            <a:chExt cx="351360" cy="504360"/>
          </a:xfrm>
        </p:grpSpPr>
        <p:sp>
          <p:nvSpPr>
            <p:cNvPr id="727" name=""/>
            <p:cNvSpPr/>
            <p:nvPr/>
          </p:nvSpPr>
          <p:spPr>
            <a:xfrm>
              <a:off x="579708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708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93800" y="3789360"/>
            <a:ext cx="351360" cy="504720"/>
            <a:chOff x="5293800" y="3789360"/>
            <a:chExt cx="351360" cy="504720"/>
          </a:xfrm>
        </p:grpSpPr>
        <p:sp>
          <p:nvSpPr>
            <p:cNvPr id="730" name=""/>
            <p:cNvSpPr/>
            <p:nvPr/>
          </p:nvSpPr>
          <p:spPr>
            <a:xfrm>
              <a:off x="5293800" y="3849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3800" y="3789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797080" y="2997360"/>
            <a:ext cx="351360" cy="504360"/>
            <a:chOff x="5797080" y="2997360"/>
            <a:chExt cx="351360" cy="504360"/>
          </a:xfrm>
        </p:grpSpPr>
        <p:sp>
          <p:nvSpPr>
            <p:cNvPr id="733" name=""/>
            <p:cNvSpPr/>
            <p:nvPr/>
          </p:nvSpPr>
          <p:spPr>
            <a:xfrm>
              <a:off x="5797080" y="3057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7080" y="299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57440" y="4869000"/>
            <a:ext cx="351360" cy="504720"/>
            <a:chOff x="6157440" y="4869000"/>
            <a:chExt cx="351360" cy="504720"/>
          </a:xfrm>
        </p:grpSpPr>
        <p:sp>
          <p:nvSpPr>
            <p:cNvPr id="736" name=""/>
            <p:cNvSpPr/>
            <p:nvPr/>
          </p:nvSpPr>
          <p:spPr>
            <a:xfrm>
              <a:off x="6157440" y="4929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57440" y="4869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157440" y="4508640"/>
            <a:ext cx="351360" cy="504360"/>
            <a:chOff x="6157440" y="4508640"/>
            <a:chExt cx="351360" cy="504360"/>
          </a:xfrm>
        </p:grpSpPr>
        <p:sp>
          <p:nvSpPr>
            <p:cNvPr id="739" name=""/>
            <p:cNvSpPr/>
            <p:nvPr/>
          </p:nvSpPr>
          <p:spPr>
            <a:xfrm>
              <a:off x="6157440" y="4568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57440" y="45086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F10E-32F1-4182-8FEA-5E58799CBE09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9120" y="533520"/>
            <a:ext cx="791820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DD68-7331-4157-9AE9-35F8CFE6915E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1FFC-8C92-4CAE-B35B-E4BEBACF323F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1668600" y="410040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280"/>
                <a:gridCol w="1728720"/>
                <a:gridCol w="237672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Oval 452"/>
          <p:cNvSpPr/>
          <p:nvPr/>
        </p:nvSpPr>
        <p:spPr>
          <a:xfrm>
            <a:off x="-1538280" y="3206880"/>
            <a:ext cx="367200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50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1163520" y="1652760"/>
            <a:ext cx="1368000" cy="1294920"/>
            <a:chOff x="1163520" y="1652760"/>
            <a:chExt cx="1368000" cy="1294920"/>
          </a:xfrm>
        </p:grpSpPr>
        <p:sp>
          <p:nvSpPr>
            <p:cNvPr id="749" name="WordArt 9"/>
            <p:cNvSpPr txBox="1"/>
            <p:nvPr/>
          </p:nvSpPr>
          <p:spPr>
            <a:xfrm>
              <a:off x="1163520" y="1652760"/>
              <a:ext cx="1190160" cy="11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1184760" y="1652760"/>
              <a:ext cx="1346760" cy="12949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Text Box 5"/>
          <p:cNvSpPr/>
          <p:nvPr/>
        </p:nvSpPr>
        <p:spPr>
          <a:xfrm>
            <a:off x="2316240" y="175248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6"/>
          <p:cNvSpPr/>
          <p:nvPr/>
        </p:nvSpPr>
        <p:spPr>
          <a:xfrm>
            <a:off x="4836960" y="2203560"/>
            <a:ext cx="57492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7"/>
          <p:cNvSpPr/>
          <p:nvPr/>
        </p:nvSpPr>
        <p:spPr>
          <a:xfrm>
            <a:off x="2603520" y="220356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3252960" y="220356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2720520" y="3019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3"/>
          <p:cNvSpPr/>
          <p:nvPr/>
        </p:nvSpPr>
        <p:spPr>
          <a:xfrm>
            <a:off x="5772240" y="417204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6"/>
          <p:cNvSpPr/>
          <p:nvPr/>
        </p:nvSpPr>
        <p:spPr>
          <a:xfrm>
            <a:off x="4044960" y="417204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68"/>
          <p:cNvSpPr/>
          <p:nvPr/>
        </p:nvSpPr>
        <p:spPr>
          <a:xfrm>
            <a:off x="2747880" y="4172040"/>
            <a:ext cx="115272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317600" y="529128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1314360" y="489276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309680" y="449892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1314360" y="410040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63" name="AutoShape 387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390"/>
          <p:cNvGrpSpPr/>
          <p:nvPr/>
        </p:nvGrpSpPr>
        <p:grpSpPr>
          <a:xfrm>
            <a:off x="6563880" y="4623120"/>
            <a:ext cx="504360" cy="593280"/>
            <a:chOff x="6563880" y="4623120"/>
            <a:chExt cx="504360" cy="593280"/>
          </a:xfrm>
        </p:grpSpPr>
        <p:sp>
          <p:nvSpPr>
            <p:cNvPr id="765" name="AutoShape 388"/>
            <p:cNvSpPr/>
            <p:nvPr/>
          </p:nvSpPr>
          <p:spPr>
            <a:xfrm rot="19359600">
              <a:off x="6635520" y="4695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89"/>
            <p:cNvSpPr/>
            <p:nvPr/>
          </p:nvSpPr>
          <p:spPr>
            <a:xfrm>
              <a:off x="660528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96"/>
          <p:cNvGrpSpPr/>
          <p:nvPr/>
        </p:nvGrpSpPr>
        <p:grpSpPr>
          <a:xfrm>
            <a:off x="2963160" y="5415120"/>
            <a:ext cx="504000" cy="593280"/>
            <a:chOff x="2963160" y="5415120"/>
            <a:chExt cx="504000" cy="593280"/>
          </a:xfrm>
        </p:grpSpPr>
        <p:grpSp>
          <p:nvGrpSpPr>
            <p:cNvPr id="768" name="Group 391"/>
            <p:cNvGrpSpPr/>
            <p:nvPr/>
          </p:nvGrpSpPr>
          <p:grpSpPr>
            <a:xfrm>
              <a:off x="2963160" y="5415120"/>
              <a:ext cx="504000" cy="593280"/>
              <a:chOff x="2963160" y="5415120"/>
              <a:chExt cx="504000" cy="593280"/>
            </a:xfrm>
          </p:grpSpPr>
          <p:sp>
            <p:nvSpPr>
              <p:cNvPr id="769" name="AutoShape 392"/>
              <p:cNvSpPr/>
              <p:nvPr/>
            </p:nvSpPr>
            <p:spPr>
              <a:xfrm rot="19359600">
                <a:off x="303480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393"/>
              <p:cNvSpPr/>
              <p:nvPr/>
            </p:nvSpPr>
            <p:spPr>
              <a:xfrm>
                <a:off x="300456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AutoShape 395"/>
            <p:cNvSpPr/>
            <p:nvPr/>
          </p:nvSpPr>
          <p:spPr>
            <a:xfrm>
              <a:off x="303696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97"/>
          <p:cNvGrpSpPr/>
          <p:nvPr/>
        </p:nvGrpSpPr>
        <p:grpSpPr>
          <a:xfrm>
            <a:off x="6563880" y="5415120"/>
            <a:ext cx="504360" cy="593280"/>
            <a:chOff x="6563880" y="5415120"/>
            <a:chExt cx="504360" cy="593280"/>
          </a:xfrm>
        </p:grpSpPr>
        <p:sp>
          <p:nvSpPr>
            <p:cNvPr id="773" name="AutoShape 398"/>
            <p:cNvSpPr/>
            <p:nvPr/>
          </p:nvSpPr>
          <p:spPr>
            <a:xfrm rot="19359600">
              <a:off x="6635520" y="5487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9"/>
            <p:cNvSpPr/>
            <p:nvPr/>
          </p:nvSpPr>
          <p:spPr>
            <a:xfrm>
              <a:off x="6605280" y="5487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00"/>
          <p:cNvGrpSpPr/>
          <p:nvPr/>
        </p:nvGrpSpPr>
        <p:grpSpPr>
          <a:xfrm>
            <a:off x="6563880" y="5016960"/>
            <a:ext cx="504360" cy="593280"/>
            <a:chOff x="6563880" y="5016960"/>
            <a:chExt cx="504360" cy="593280"/>
          </a:xfrm>
        </p:grpSpPr>
        <p:sp>
          <p:nvSpPr>
            <p:cNvPr id="776" name="AutoShape 401"/>
            <p:cNvSpPr/>
            <p:nvPr/>
          </p:nvSpPr>
          <p:spPr>
            <a:xfrm rot="19359600">
              <a:off x="6635520" y="5089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02"/>
            <p:cNvSpPr/>
            <p:nvPr/>
          </p:nvSpPr>
          <p:spPr>
            <a:xfrm>
              <a:off x="660528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03"/>
          <p:cNvGrpSpPr/>
          <p:nvPr/>
        </p:nvGrpSpPr>
        <p:grpSpPr>
          <a:xfrm>
            <a:off x="4566600" y="5808960"/>
            <a:ext cx="504000" cy="593280"/>
            <a:chOff x="4566600" y="5808960"/>
            <a:chExt cx="504000" cy="593280"/>
          </a:xfrm>
        </p:grpSpPr>
        <p:sp>
          <p:nvSpPr>
            <p:cNvPr id="779" name="AutoShape 404"/>
            <p:cNvSpPr/>
            <p:nvPr/>
          </p:nvSpPr>
          <p:spPr>
            <a:xfrm rot="19359600">
              <a:off x="463824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405"/>
            <p:cNvSpPr/>
            <p:nvPr/>
          </p:nvSpPr>
          <p:spPr>
            <a:xfrm>
              <a:off x="460800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06"/>
          <p:cNvGrpSpPr/>
          <p:nvPr/>
        </p:nvGrpSpPr>
        <p:grpSpPr>
          <a:xfrm>
            <a:off x="6582960" y="5808960"/>
            <a:ext cx="504360" cy="593280"/>
            <a:chOff x="6582960" y="5808960"/>
            <a:chExt cx="504360" cy="593280"/>
          </a:xfrm>
        </p:grpSpPr>
        <p:sp>
          <p:nvSpPr>
            <p:cNvPr id="782" name="AutoShape 407"/>
            <p:cNvSpPr/>
            <p:nvPr/>
          </p:nvSpPr>
          <p:spPr>
            <a:xfrm rot="19359600">
              <a:off x="6654600" y="5881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408"/>
            <p:cNvSpPr/>
            <p:nvPr/>
          </p:nvSpPr>
          <p:spPr>
            <a:xfrm>
              <a:off x="662436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09"/>
          <p:cNvGrpSpPr/>
          <p:nvPr/>
        </p:nvGrpSpPr>
        <p:grpSpPr>
          <a:xfrm>
            <a:off x="2982240" y="5808960"/>
            <a:ext cx="504000" cy="593280"/>
            <a:chOff x="2982240" y="5808960"/>
            <a:chExt cx="504000" cy="593280"/>
          </a:xfrm>
        </p:grpSpPr>
        <p:sp>
          <p:nvSpPr>
            <p:cNvPr id="785" name="AutoShape 410"/>
            <p:cNvSpPr/>
            <p:nvPr/>
          </p:nvSpPr>
          <p:spPr>
            <a:xfrm rot="19359600">
              <a:off x="305388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411"/>
            <p:cNvSpPr/>
            <p:nvPr/>
          </p:nvSpPr>
          <p:spPr>
            <a:xfrm>
              <a:off x="302364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2"/>
          <p:cNvGrpSpPr/>
          <p:nvPr/>
        </p:nvGrpSpPr>
        <p:grpSpPr>
          <a:xfrm>
            <a:off x="2963160" y="5016960"/>
            <a:ext cx="504000" cy="593280"/>
            <a:chOff x="2963160" y="5016960"/>
            <a:chExt cx="504000" cy="593280"/>
          </a:xfrm>
        </p:grpSpPr>
        <p:sp>
          <p:nvSpPr>
            <p:cNvPr id="788" name="AutoShape 413"/>
            <p:cNvSpPr/>
            <p:nvPr/>
          </p:nvSpPr>
          <p:spPr>
            <a:xfrm rot="19359600">
              <a:off x="3034800" y="5089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14"/>
            <p:cNvSpPr/>
            <p:nvPr/>
          </p:nvSpPr>
          <p:spPr>
            <a:xfrm>
              <a:off x="300456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15"/>
          <p:cNvGrpSpPr/>
          <p:nvPr/>
        </p:nvGrpSpPr>
        <p:grpSpPr>
          <a:xfrm>
            <a:off x="2963160" y="4623120"/>
            <a:ext cx="504000" cy="593280"/>
            <a:chOff x="2963160" y="4623120"/>
            <a:chExt cx="504000" cy="593280"/>
          </a:xfrm>
        </p:grpSpPr>
        <p:sp>
          <p:nvSpPr>
            <p:cNvPr id="791" name="AutoShape 416"/>
            <p:cNvSpPr/>
            <p:nvPr/>
          </p:nvSpPr>
          <p:spPr>
            <a:xfrm rot="19359600">
              <a:off x="3034800" y="46954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17"/>
            <p:cNvSpPr/>
            <p:nvPr/>
          </p:nvSpPr>
          <p:spPr>
            <a:xfrm>
              <a:off x="300456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23"/>
          <p:cNvGrpSpPr/>
          <p:nvPr/>
        </p:nvGrpSpPr>
        <p:grpSpPr>
          <a:xfrm>
            <a:off x="4547520" y="5016960"/>
            <a:ext cx="504000" cy="593280"/>
            <a:chOff x="4547520" y="5016960"/>
            <a:chExt cx="504000" cy="593280"/>
          </a:xfrm>
        </p:grpSpPr>
        <p:grpSp>
          <p:nvGrpSpPr>
            <p:cNvPr id="794" name="Group 424"/>
            <p:cNvGrpSpPr/>
            <p:nvPr/>
          </p:nvGrpSpPr>
          <p:grpSpPr>
            <a:xfrm>
              <a:off x="4547520" y="5016960"/>
              <a:ext cx="504000" cy="593280"/>
              <a:chOff x="4547520" y="5016960"/>
              <a:chExt cx="504000" cy="593280"/>
            </a:xfrm>
          </p:grpSpPr>
          <p:sp>
            <p:nvSpPr>
              <p:cNvPr id="795" name="AutoShape 425"/>
              <p:cNvSpPr/>
              <p:nvPr/>
            </p:nvSpPr>
            <p:spPr>
              <a:xfrm rot="19359600">
                <a:off x="4619160" y="508932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426"/>
              <p:cNvSpPr/>
              <p:nvPr/>
            </p:nvSpPr>
            <p:spPr>
              <a:xfrm>
                <a:off x="4588920" y="508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AutoShape 427"/>
            <p:cNvSpPr/>
            <p:nvPr/>
          </p:nvSpPr>
          <p:spPr>
            <a:xfrm>
              <a:off x="4621320" y="508968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428"/>
          <p:cNvGrpSpPr/>
          <p:nvPr/>
        </p:nvGrpSpPr>
        <p:grpSpPr>
          <a:xfrm>
            <a:off x="4547520" y="4623120"/>
            <a:ext cx="504000" cy="593280"/>
            <a:chOff x="4547520" y="4623120"/>
            <a:chExt cx="504000" cy="593280"/>
          </a:xfrm>
        </p:grpSpPr>
        <p:grpSp>
          <p:nvGrpSpPr>
            <p:cNvPr id="799" name="Group 429"/>
            <p:cNvGrpSpPr/>
            <p:nvPr/>
          </p:nvGrpSpPr>
          <p:grpSpPr>
            <a:xfrm>
              <a:off x="4547520" y="4623120"/>
              <a:ext cx="504000" cy="593280"/>
              <a:chOff x="4547520" y="4623120"/>
              <a:chExt cx="504000" cy="593280"/>
            </a:xfrm>
          </p:grpSpPr>
          <p:sp>
            <p:nvSpPr>
              <p:cNvPr id="800" name="AutoShape 430"/>
              <p:cNvSpPr/>
              <p:nvPr/>
            </p:nvSpPr>
            <p:spPr>
              <a:xfrm rot="19359600">
                <a:off x="4619160" y="4695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431"/>
              <p:cNvSpPr/>
              <p:nvPr/>
            </p:nvSpPr>
            <p:spPr>
              <a:xfrm>
                <a:off x="4588920" y="4695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AutoShape 432"/>
            <p:cNvSpPr/>
            <p:nvPr/>
          </p:nvSpPr>
          <p:spPr>
            <a:xfrm>
              <a:off x="4621320" y="4695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443"/>
          <p:cNvGrpSpPr/>
          <p:nvPr/>
        </p:nvGrpSpPr>
        <p:grpSpPr>
          <a:xfrm>
            <a:off x="4547520" y="5415120"/>
            <a:ext cx="504000" cy="593280"/>
            <a:chOff x="4547520" y="5415120"/>
            <a:chExt cx="504000" cy="593280"/>
          </a:xfrm>
        </p:grpSpPr>
        <p:grpSp>
          <p:nvGrpSpPr>
            <p:cNvPr id="804" name="Group 444"/>
            <p:cNvGrpSpPr/>
            <p:nvPr/>
          </p:nvGrpSpPr>
          <p:grpSpPr>
            <a:xfrm>
              <a:off x="4547520" y="5415120"/>
              <a:ext cx="504000" cy="593280"/>
              <a:chOff x="4547520" y="5415120"/>
              <a:chExt cx="504000" cy="593280"/>
            </a:xfrm>
          </p:grpSpPr>
          <p:sp>
            <p:nvSpPr>
              <p:cNvPr id="805" name="AutoShape 445"/>
              <p:cNvSpPr/>
              <p:nvPr/>
            </p:nvSpPr>
            <p:spPr>
              <a:xfrm rot="19359600">
                <a:off x="461916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46"/>
              <p:cNvSpPr/>
              <p:nvPr/>
            </p:nvSpPr>
            <p:spPr>
              <a:xfrm>
                <a:off x="458892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AutoShape 447"/>
            <p:cNvSpPr/>
            <p:nvPr/>
          </p:nvSpPr>
          <p:spPr>
            <a:xfrm>
              <a:off x="462132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Oval 448"/>
          <p:cNvSpPr/>
          <p:nvPr/>
        </p:nvSpPr>
        <p:spPr>
          <a:xfrm>
            <a:off x="6276960" y="453240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49" descr="ICN_073C"/>
          <p:cNvPicPr/>
          <p:nvPr/>
        </p:nvPicPr>
        <p:blipFill>
          <a:blip r:embed="rId1"/>
          <a:stretch/>
        </p:blipFill>
        <p:spPr>
          <a:xfrm>
            <a:off x="6348240" y="17240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EA1F-B02C-4B95-B6B5-E6CA0669D897}" type="slidenum">
              <a:t>36</a:t>
            </a:fld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23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ächstes M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1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2" name="Rectangle 64"/>
          <p:cNvSpPr/>
          <p:nvPr/>
        </p:nvSpPr>
        <p:spPr>
          <a:xfrm>
            <a:off x="468360" y="3573360"/>
            <a:ext cx="4294080" cy="30348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80F4-498E-43DE-BAE5-8B5AF379F409}" type="slidenum">
              <a:t>37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15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18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8C84-6511-4937-B95E-DED1AEC53C7C}" type="slidenum">
              <a:t>4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ED06184"/>
          <p:cNvPicPr/>
          <p:nvPr/>
        </p:nvPicPr>
        <p:blipFill>
          <a:blip r:embed="rId1"/>
          <a:srcRect l="0" t="0" r="8824" b="770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128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7374-CD94-4296-8818-FBC8E3525325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3985-AC80-405E-BEF1-479AE7C332C2}" type="slidenum">
              <a:t>6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AC0A-8CD2-43C2-91E4-1D085FE59943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64800" y="17143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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4CD6-FA8C-4F51-91A9-5D864444688F}" type="slidenum">
              <a:t>8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77588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373440" y="5805360"/>
            <a:ext cx="351360" cy="504720"/>
            <a:chOff x="6373440" y="5805360"/>
            <a:chExt cx="351360" cy="504720"/>
          </a:xfrm>
        </p:grpSpPr>
        <p:sp>
          <p:nvSpPr>
            <p:cNvPr id="172" name=""/>
            <p:cNvSpPr/>
            <p:nvPr/>
          </p:nvSpPr>
          <p:spPr>
            <a:xfrm>
              <a:off x="6373440" y="58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3440" y="58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A818-3709-4FBE-B1FE-5FA343609634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57:17Z</dcterms:created>
  <dc:creator>York Sure</dc:creator>
  <dc:description/>
  <dc:language>en-US</dc:language>
  <cp:lastModifiedBy> Pascal Hitzler</cp:lastModifiedBy>
  <cp:lastPrinted>2008-06-06T08:13:02Z</cp:lastPrinted>
  <dcterms:modified xsi:type="dcterms:W3CDTF">2008-11-18T19:23:31Z</dcterms:modified>
  <cp:revision>291</cp:revision>
  <dc:subject/>
  <dc:title>Kein Folientitel</dc:title>
</cp:coreProperties>
</file>